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2520" y="-180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801440" y="477360"/>
            <a:ext cx="3174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08760" y="2576520"/>
            <a:ext cx="679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PSP level has an associated pla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print page option to print the correct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801800" y="477720"/>
            <a:ext cx="3174840" cy="2381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BD86B9D-0782-453F-98C1-F041CC4197C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EB4C5C1-60E5-410E-ABAB-75C83908ACB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3141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2160" y="88848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the 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375840"/>
            <a:ext cx="781236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9040" y="1461600"/>
            <a:ext cx="7410600" cy="221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structio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orksheet describes how to use the worksheets in the student workboo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24040" y="4586400"/>
            <a:ext cx="199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hen click the </a:t>
            </a:r>
            <a:r>
              <a:rPr b="1" i="1" lang="en-US" sz="1600" spc="-1" strike="noStrike">
                <a:solidFill>
                  <a:srgbClr val="99ccff"/>
                </a:solidFill>
                <a:latin typeface="Arial"/>
              </a:rPr>
              <a:t>Student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 tab to go to the PSP student background survey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26920" y="2427120"/>
            <a:ext cx="19400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ake a minute to read the instructions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1"/>
          <a:stretch/>
        </p:blipFill>
        <p:spPr>
          <a:xfrm>
            <a:off x="3178080" y="2336760"/>
            <a:ext cx="5746680" cy="4008600"/>
          </a:xfrm>
          <a:prstGeom prst="rect">
            <a:avLst/>
          </a:prstGeom>
          <a:ln w="0">
            <a:noFill/>
          </a:ln>
        </p:spPr>
      </p:pic>
      <p:sp>
        <p:nvSpPr>
          <p:cNvPr id="183" name="Arc 8"/>
          <p:cNvSpPr/>
          <p:nvPr/>
        </p:nvSpPr>
        <p:spPr>
          <a:xfrm>
            <a:off x="2062080" y="2979720"/>
            <a:ext cx="2759040" cy="609480"/>
          </a:xfrm>
          <a:custGeom>
            <a:avLst/>
            <a:gdLst/>
            <a:ahLst/>
            <a:rect l="l" t="t" r="r" b="b"/>
            <a:pathLst>
              <a:path fill="none" w="21139" h="21586">
                <a:moveTo>
                  <a:pt x="777" y="-1"/>
                </a:moveTo>
                <a:cubicBezTo>
                  <a:pt x="10699" y="357"/>
                  <a:pt x="19100" y="7432"/>
                  <a:pt x="21139" y="17149"/>
                </a:cubicBezTo>
              </a:path>
              <a:path stroke="0" w="21139" h="21586">
                <a:moveTo>
                  <a:pt x="777" y="-1"/>
                </a:moveTo>
                <a:cubicBezTo>
                  <a:pt x="10699" y="357"/>
                  <a:pt x="19100" y="7432"/>
                  <a:pt x="21139" y="17149"/>
                </a:cubicBezTo>
                <a:lnTo>
                  <a:pt x="0" y="21586"/>
                </a:lnTo>
                <a:lnTo>
                  <a:pt x="777" y="-1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Arc 6"/>
          <p:cNvSpPr/>
          <p:nvPr/>
        </p:nvSpPr>
        <p:spPr>
          <a:xfrm>
            <a:off x="2643120" y="4970520"/>
            <a:ext cx="2063880" cy="990720"/>
          </a:xfrm>
          <a:custGeom>
            <a:avLst/>
            <a:gdLst/>
            <a:ahLst/>
            <a:rect l="l" t="t" r="r" b="b"/>
            <a:pathLst>
              <a:path fill="none" w="22499" h="21600">
                <a:moveTo>
                  <a:pt x="-1" y="18"/>
                </a:moveTo>
                <a:cubicBezTo>
                  <a:pt x="299" y="6"/>
                  <a:pt x="599" y="-1"/>
                  <a:pt x="899" y="0"/>
                </a:cubicBezTo>
                <a:cubicBezTo>
                  <a:pt x="12828" y="0"/>
                  <a:pt x="22499" y="9670"/>
                  <a:pt x="22499" y="21600"/>
                </a:cubicBezTo>
              </a:path>
              <a:path stroke="0" w="22499" h="21600">
                <a:moveTo>
                  <a:pt x="-1" y="18"/>
                </a:moveTo>
                <a:cubicBezTo>
                  <a:pt x="299" y="6"/>
                  <a:pt x="599" y="-1"/>
                  <a:pt x="899" y="0"/>
                </a:cubicBezTo>
                <a:cubicBezTo>
                  <a:pt x="12828" y="0"/>
                  <a:pt x="22499" y="9670"/>
                  <a:pt x="22499" y="21600"/>
                </a:cubicBezTo>
                <a:lnTo>
                  <a:pt x="899" y="21600"/>
                </a:lnTo>
                <a:lnTo>
                  <a:pt x="-1" y="18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Background Surve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0640" y="1517760"/>
            <a:ext cx="7410240" cy="22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, complete the PSP student background surve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0800" y="4508640"/>
            <a:ext cx="184464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hen click the </a:t>
            </a:r>
            <a:r>
              <a:rPr b="1" i="1" lang="en-US" sz="1600" spc="-1" strike="noStrike">
                <a:solidFill>
                  <a:srgbClr val="99ccff"/>
                </a:solidFill>
                <a:latin typeface="Arial"/>
              </a:rPr>
              <a:t>Summary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 tab to review summary worksheet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3019320" y="2320920"/>
            <a:ext cx="5640480" cy="3933720"/>
          </a:xfrm>
          <a:prstGeom prst="rect">
            <a:avLst/>
          </a:prstGeom>
          <a:ln w="0">
            <a:noFill/>
          </a:ln>
        </p:spPr>
      </p:pic>
      <p:sp>
        <p:nvSpPr>
          <p:cNvPr id="189" name="Arc 7"/>
          <p:cNvSpPr/>
          <p:nvPr/>
        </p:nvSpPr>
        <p:spPr>
          <a:xfrm>
            <a:off x="2568600" y="5067360"/>
            <a:ext cx="2440080" cy="990720"/>
          </a:xfrm>
          <a:custGeom>
            <a:avLst/>
            <a:gdLst/>
            <a:ahLst/>
            <a:rect l="l" t="t" r="r" b="b"/>
            <a:pathLst>
              <a:path fill="none" w="20845" h="21594">
                <a:moveTo>
                  <a:pt x="525" y="0"/>
                </a:moveTo>
                <a:cubicBezTo>
                  <a:pt x="10077" y="233"/>
                  <a:pt x="18341" y="6712"/>
                  <a:pt x="20844" y="15933"/>
                </a:cubicBezTo>
              </a:path>
              <a:path stroke="0" w="20845" h="21594">
                <a:moveTo>
                  <a:pt x="525" y="0"/>
                </a:moveTo>
                <a:cubicBezTo>
                  <a:pt x="10077" y="233"/>
                  <a:pt x="18341" y="6712"/>
                  <a:pt x="20844" y="15933"/>
                </a:cubicBezTo>
                <a:lnTo>
                  <a:pt x="0" y="21594"/>
                </a:lnTo>
                <a:lnTo>
                  <a:pt x="525" y="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82425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8760" y="1467000"/>
            <a:ext cx="35398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summaries 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que to each PSP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d for each assig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orksheet automates the prepar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plan summary form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summary forms are included for programming exercises 1A through 10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 marks indicate student-supplied data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cells are lock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4272120" y="1525680"/>
            <a:ext cx="4719600" cy="4081320"/>
          </a:xfrm>
          <a:prstGeom prst="rect">
            <a:avLst/>
          </a:prstGeom>
          <a:ln w="0">
            <a:noFill/>
          </a:ln>
        </p:spPr>
      </p:pic>
      <p:sp>
        <p:nvSpPr>
          <p:cNvPr id="193" name="Arc 5"/>
          <p:cNvSpPr/>
          <p:nvPr/>
        </p:nvSpPr>
        <p:spPr>
          <a:xfrm>
            <a:off x="3660840" y="4676760"/>
            <a:ext cx="2793960" cy="614520"/>
          </a:xfrm>
          <a:custGeom>
            <a:avLst/>
            <a:gdLst/>
            <a:ahLst/>
            <a:rect l="l" t="t" r="r" b="b"/>
            <a:pathLst>
              <a:path fill="none" w="22175" h="21600">
                <a:moveTo>
                  <a:pt x="22174" y="8911"/>
                </a:moveTo>
                <a:cubicBezTo>
                  <a:pt x="18675" y="16637"/>
                  <a:pt x="10979" y="21599"/>
                  <a:pt x="2499" y="21600"/>
                </a:cubicBezTo>
                <a:cubicBezTo>
                  <a:pt x="1663" y="21600"/>
                  <a:pt x="829" y="21551"/>
                  <a:pt x="0" y="21454"/>
                </a:cubicBezTo>
              </a:path>
              <a:path stroke="0" w="22175" h="21600">
                <a:moveTo>
                  <a:pt x="22174" y="8911"/>
                </a:moveTo>
                <a:cubicBezTo>
                  <a:pt x="18675" y="16637"/>
                  <a:pt x="10979" y="21599"/>
                  <a:pt x="2499" y="21600"/>
                </a:cubicBezTo>
                <a:cubicBezTo>
                  <a:pt x="1663" y="21600"/>
                  <a:pt x="829" y="21551"/>
                  <a:pt x="0" y="21454"/>
                </a:cubicBezTo>
                <a:lnTo>
                  <a:pt x="2499" y="0"/>
                </a:lnTo>
                <a:lnTo>
                  <a:pt x="22174" y="8911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Drop-Down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3800" y="1469880"/>
            <a:ext cx="2881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project drop-down control to select a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056" descr=""/>
          <p:cNvPicPr/>
          <p:nvPr/>
        </p:nvPicPr>
        <p:blipFill>
          <a:blip r:embed="rId1"/>
          <a:stretch/>
        </p:blipFill>
        <p:spPr>
          <a:xfrm>
            <a:off x="3852720" y="1611360"/>
            <a:ext cx="5077080" cy="4390920"/>
          </a:xfrm>
          <a:prstGeom prst="rect">
            <a:avLst/>
          </a:prstGeom>
          <a:ln w="0">
            <a:noFill/>
          </a:ln>
        </p:spPr>
      </p:pic>
      <p:sp>
        <p:nvSpPr>
          <p:cNvPr id="197" name="Arc 2053"/>
          <p:cNvSpPr/>
          <p:nvPr/>
        </p:nvSpPr>
        <p:spPr>
          <a:xfrm flipV="1">
            <a:off x="3065400" y="1731960"/>
            <a:ext cx="1046160" cy="2317680"/>
          </a:xfrm>
          <a:custGeom>
            <a:avLst/>
            <a:gdLst/>
            <a:ahLst/>
            <a:rect l="l" t="t" r="r" b="b"/>
            <a:pathLst>
              <a:path fill="none" w="17551" h="21304">
                <a:moveTo>
                  <a:pt x="17551" y="12590"/>
                </a:moveTo>
                <a:cubicBezTo>
                  <a:pt x="14223" y="17228"/>
                  <a:pt x="9195" y="20361"/>
                  <a:pt x="3564" y="21303"/>
                </a:cubicBezTo>
              </a:path>
              <a:path stroke="0" w="17551" h="21304">
                <a:moveTo>
                  <a:pt x="17551" y="12590"/>
                </a:moveTo>
                <a:cubicBezTo>
                  <a:pt x="14223" y="17228"/>
                  <a:pt x="9195" y="20361"/>
                  <a:pt x="3564" y="21303"/>
                </a:cubicBezTo>
                <a:lnTo>
                  <a:pt x="0" y="0"/>
                </a:lnTo>
                <a:lnTo>
                  <a:pt x="17551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90560" y="1461960"/>
            <a:ext cx="2795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t’s get start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eac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????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project 1 with your data from assignment 1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time in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1"/>
          <a:stretch/>
        </p:blipFill>
        <p:spPr>
          <a:xfrm>
            <a:off x="3833640" y="1571760"/>
            <a:ext cx="507708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028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0640" y="1495080"/>
            <a:ext cx="74102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ime log worksheet is used for recording time lo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data on the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re automatically rolled up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orksheet can be pri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1"/>
          <a:stretch/>
        </p:blipFill>
        <p:spPr>
          <a:xfrm>
            <a:off x="906480" y="2997360"/>
            <a:ext cx="76010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hase Defini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788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s are defined so that data are consistent across programs.  Not all phases are introduced immedi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: 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:  high-leve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R:  high-level design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:  detailed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R:  detailed design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: 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:  code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: 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: 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M:  postmor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9360" y="1521000"/>
            <a:ext cx="755964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cut menus (right mouse click) provide context-sensitive input for the project and phase colum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035" descr=""/>
          <p:cNvPicPr/>
          <p:nvPr/>
        </p:nvPicPr>
        <p:blipFill>
          <a:blip r:embed="rId1"/>
          <a:srcRect l="4688" t="12502" r="18749" b="18753"/>
          <a:stretch/>
        </p:blipFill>
        <p:spPr>
          <a:xfrm>
            <a:off x="1154160" y="2076480"/>
            <a:ext cx="6676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7400" y="1499760"/>
            <a:ext cx="8029440" cy="22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e, start, and stop columns default to the current date an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, start, and stop can b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NOTE: Format for time field is hh:mm:ss, where hh is 00 - 23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Example: 2:44 PM is 14:4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054" descr=""/>
          <p:cNvPicPr/>
          <p:nvPr/>
        </p:nvPicPr>
        <p:blipFill>
          <a:blip r:embed="rId1"/>
          <a:stretch/>
        </p:blipFill>
        <p:spPr>
          <a:xfrm>
            <a:off x="907920" y="3656160"/>
            <a:ext cx="7524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0640" y="1506240"/>
            <a:ext cx="74102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ion time (Int.) and comments ar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time is calculated automat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= Stop - Start - I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31" descr=""/>
          <p:cNvPicPr/>
          <p:nvPr/>
        </p:nvPicPr>
        <p:blipFill>
          <a:blip r:embed="rId1"/>
          <a:stretch/>
        </p:blipFill>
        <p:spPr>
          <a:xfrm>
            <a:off x="919080" y="3176640"/>
            <a:ext cx="7524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6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7080" y="1450800"/>
            <a:ext cx="7932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program 1A time data into the time log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885960" y="2441520"/>
            <a:ext cx="7524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77960" y="1449360"/>
            <a:ext cx="7813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log worksheet is used for recording defect lo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data on the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re automatically rolled up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orksheet can be pri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896760" y="3083040"/>
            <a:ext cx="69613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9720" y="1499760"/>
            <a:ext cx="7880400" cy="22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cut menus (right mouse click) provide context-sensitive input for the project, type, injected, and removed colum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33" descr=""/>
          <p:cNvPicPr/>
          <p:nvPr/>
        </p:nvPicPr>
        <p:blipFill>
          <a:blip r:embed="rId1"/>
          <a:srcRect l="15940" t="13752" r="11252" b="32500"/>
          <a:stretch/>
        </p:blipFill>
        <p:spPr>
          <a:xfrm>
            <a:off x="907920" y="2389320"/>
            <a:ext cx="71024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9120" y="149508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e defaults to the current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 is calculated automat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time, fix ref., and description ar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896760" y="3398760"/>
            <a:ext cx="7344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788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program 1A defect data into the defect log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906480" y="2403360"/>
            <a:ext cx="7343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9400" y="1449360"/>
            <a:ext cx="3386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, return to the summary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calculated values against your project plan summary for assignment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lve any discrepanc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451400" y="668160"/>
            <a:ext cx="449892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inting Plan Summary Repor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7560" y="1519200"/>
            <a:ext cx="1995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nt the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, use the project drop-down control to select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, select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int..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the file menu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rcRect l="0" t="0" r="0" b="40162"/>
          <a:stretch/>
        </p:blipFill>
        <p:spPr>
          <a:xfrm>
            <a:off x="3075120" y="1617840"/>
            <a:ext cx="5895720" cy="49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0200" y="4442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Workshee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5800" y="1460520"/>
            <a:ext cx="32338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tudent workbook integrates several analysis workshee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3, R4 re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worksheets are updated automatically through links to the plan summary and defect log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011480" y="1496880"/>
            <a:ext cx="47815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ummar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6160" y="1444680"/>
            <a:ext cx="7802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all of your assignment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and turn in the summary report, time log, and defect log with your next assignment pack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79040" y="1450800"/>
            <a:ext cx="7707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diskette provides tools that perform many analy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m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your PSP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 your time and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your process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midterm and final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tools save time and reduce err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1288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contents of the student support disket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student workbook to enter time and defect data, and prepare plan summa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0200" y="4442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Note From the Instructo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all of the features of these files will be explained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features will be explained during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do not hesitate to ask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ationale for Student Diskette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7904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experience with PSP training identified two key needs of PSP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copies of the PSP scripts and forms to facilitate tail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support for data gathering, process reporting, and process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Workboo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8480" y="1506600"/>
            <a:ext cx="45007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PSP support tool left repetitive calculations to the stu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ion errors were common – and frustrating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workboo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time and defect recor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s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5443560" y="1467000"/>
            <a:ext cx="3138480" cy="4744440"/>
            <a:chOff x="5443560" y="1467000"/>
            <a:chExt cx="3138480" cy="474444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5443560" y="1467000"/>
              <a:ext cx="3138480" cy="47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5"/>
            <p:cNvSpPr/>
            <p:nvPr/>
          </p:nvSpPr>
          <p:spPr>
            <a:xfrm>
              <a:off x="5553000" y="1518840"/>
              <a:ext cx="2881440" cy="45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440" rIns="109440" tIns="52560" bIns="52560" anchor="t">
              <a:noAutofit/>
            </a:bodyPr>
            <a:p>
              <a:pPr marL="128520" indent="-128520">
                <a:lnSpc>
                  <a:spcPct val="87000"/>
                </a:lnSpc>
                <a:buClr>
                  <a:srgbClr val="ffffff"/>
                </a:buClr>
                <a:buFont typeface="Arial"/>
                <a:buChar char=" "/>
                <a:tabLst>
                  <a:tab algn="l" pos="1203480"/>
                  <a:tab algn="l" pos="2406600"/>
                  <a:tab algn="l" pos="3610080"/>
                  <a:tab algn="l" pos="4813200"/>
                  <a:tab algn="l" pos="6016680"/>
                  <a:tab algn="l" pos="7219800"/>
                  <a:tab algn="l" pos="8423280"/>
                  <a:tab algn="l" pos="9626760"/>
                  <a:tab algn="l" pos="10829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5794920" y="1544400"/>
              <a:ext cx="2323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First PSP support too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pic>
          <p:nvPicPr>
            <p:cNvPr id="170" name="Picture 7" descr=""/>
            <p:cNvPicPr/>
            <p:nvPr/>
          </p:nvPicPr>
          <p:blipFill>
            <a:blip r:embed="rId2"/>
            <a:stretch/>
          </p:blipFill>
          <p:spPr>
            <a:xfrm>
              <a:off x="6956280" y="5230440"/>
              <a:ext cx="14954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"/>
            <p:cNvPicPr/>
            <p:nvPr/>
          </p:nvPicPr>
          <p:blipFill>
            <a:blip r:embed="rId3"/>
            <a:stretch/>
          </p:blipFill>
          <p:spPr>
            <a:xfrm>
              <a:off x="6512040" y="3071520"/>
              <a:ext cx="860400" cy="12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912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Diskette Cont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0640" y="1495440"/>
            <a:ext cx="7719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diskette contains the following fi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WBK.XLS:  an Excel workbook for planning, data gathering, tracking, an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S.ZIP:  electronic copies of the PSP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Workboo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904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student workbook integrates several PSP forms and analysis repor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estimating to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3 and R4 analysis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to 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7320" y="1444680"/>
            <a:ext cx="7701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use the Excel workbook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UWBK.X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following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UWBK.X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e the first worksheet tab name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truc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42:16Z</dcterms:created>
  <dc:creator>Jim Over</dc:creator>
  <dc:description/>
  <dc:language>en-US</dc:language>
  <cp:lastModifiedBy>wrn_loc_adm</cp:lastModifiedBy>
  <cp:lastPrinted>1999-09-22T13:06:30Z</cp:lastPrinted>
  <dcterms:modified xsi:type="dcterms:W3CDTF">2018-09-06T00:17:09Z</dcterms:modified>
  <cp:revision>108</cp:revision>
  <dc:subject/>
  <dc:title>No Slide Title</dc:title>
</cp:coreProperties>
</file>